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8AEB-FFA5-4B7C-A497-635C9B4D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81B5-B17A-4E4A-86D7-ECDB4797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8CCC-7D7F-4F2A-BAC7-672A46EA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5829-361D-43EE-BACA-34002F98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E66A-18B7-449A-A2ED-1390896A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D1AB-473B-407A-B13E-7855F27B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3A8C-DAEA-4450-AD51-8ADBF151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D1F8-516A-4546-976E-34B94231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8852-D99D-487E-A643-388F74F4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E343-B8D9-4F4F-AD70-7B540A3D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9253-74DA-43CB-8716-9B60E2BC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3B48-D27A-421F-9B5E-C1089275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AFC9-41AE-4088-A282-2784A03D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666F-61EF-4338-A2C6-EE6E75AB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5673-4B83-4964-9A42-53EC610C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6D47-A0FC-476D-8865-B6751B36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4600-DA0E-417E-91DF-1C065171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A0CD-FB15-41F0-848B-A8F0E182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9419-C37A-4270-8540-421B1772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D6D3-996F-454F-AB3A-54F9E0CE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C78A-BE6C-4607-AB43-9E176E54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CFBA-1847-4C5C-A3EA-B9EF620D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59D8-C667-4B16-8B64-9FE0F0F6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A8A6-5331-4947-A9D3-0044C11E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80E5-2D71-4547-9642-6095E0E9EE5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8AD6-6952-4EF2-A199-4350BD34913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Курение и нервная систем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 ученица 9 Б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Цель: познакомиться с действием табака на нервную систем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чи: изучить влияние табака на нервную систе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1" descr="sigaret"/>
          <p:cNvPicPr/>
          <p:nvPr/>
        </p:nvPicPr>
        <p:blipFill>
          <a:blip r:embed="rId1"/>
          <a:stretch/>
        </p:blipFill>
        <p:spPr>
          <a:xfrm>
            <a:off x="1332000" y="3284640"/>
            <a:ext cx="6192720" cy="32241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поненты табачного дыма,в частности никотин активно влияют на все нервные фун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" descr="62a6551e1f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, кто курит, следует помнить, что под воздействием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икотин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роисходит сужение мозговых сосудов, а следовательно, уменьшается приток крови к нервной ткан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84721"/>
          <p:cNvPicPr/>
          <p:nvPr/>
        </p:nvPicPr>
        <p:blipFill>
          <a:blip r:embed="rId1"/>
          <a:stretch/>
        </p:blipFill>
        <p:spPr>
          <a:xfrm>
            <a:off x="4140360" y="1773360"/>
            <a:ext cx="3887640" cy="3609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вязи с этим появляются частые головные боли, происходит ослабление памяти. Курение действует отрицательно на любое проявление нервной деятельности (и в первую очередь в связи с гипоксией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OpticNeuritis_1_small"/>
          <p:cNvPicPr/>
          <p:nvPr/>
        </p:nvPicPr>
        <p:blipFill>
          <a:blip r:embed="rId1"/>
          <a:stretch/>
        </p:blipFill>
        <p:spPr>
          <a:xfrm>
            <a:off x="324000" y="2133720"/>
            <a:ext cx="4681440" cy="3095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 влиянием курения могут призойти нарушения как центральной, так и периферической нервной системы. У курильщиков часто возникают воспаления нервных стволов - невриты, полиневриты, радикулиты и т.д. Особенно вредно курение людям, страдающим какими-либо нервными заболеваниями или перенесшим травму нервной системы, например контузию, сотрясение мозг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13328"/>
          <p:cNvPicPr/>
          <p:nvPr/>
        </p:nvPicPr>
        <p:blipFill>
          <a:blip r:embed="rId1"/>
          <a:stretch/>
        </p:blipFill>
        <p:spPr>
          <a:xfrm>
            <a:off x="4140360" y="1916280"/>
            <a:ext cx="5003640" cy="35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ледствие нарушения правильного течения нервных процессов человек становится раздражительным, неуживчивым, у него развивается, как говорят, "тяжёлый характер"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03537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тистические данные показывают несомненную роль курения в возникновении ряда нервных расстройст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ывод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урение причиняет вред не только вашему здоровью, но и здоровью окружающих вас людей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делайте правильный выбор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5:59:29Z</dcterms:created>
  <dc:creator>Admin</dc:creator>
  <dc:description/>
  <dc:language>en-US</dc:language>
  <cp:lastModifiedBy>07100</cp:lastModifiedBy>
  <dcterms:modified xsi:type="dcterms:W3CDTF">2009-12-26T08:16:56Z</dcterms:modified>
  <cp:revision>5</cp:revision>
  <dc:subject/>
  <dc:title>Курение и нервная система</dc:title>
</cp:coreProperties>
</file>